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462-BDE0-4936-B4E5-D16E6C5C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6B3-A52F-4676-B8AD-3943BF3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A3F-2948-4DCC-81BD-EE5DE23F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1FC-8C0C-433D-9AD1-14F4ECC3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48B-4381-4378-B0F7-7994038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901-B2F6-41E7-8ACD-8222AE86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469-8A82-46D7-B828-9B2BEF2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5FC-83BF-4979-9A09-AFB2CCAB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77C-26AA-4CA4-8E03-D12E80CB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E6E-99A9-4076-8109-494141F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F9D-5DF6-4669-85FF-636F28E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86E-941C-4D20-9EE2-0784F50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C52-1397-45A8-9F3D-2AA165FD8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24000" y="17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95280" y="2924280"/>
            <a:ext cx="8282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вежб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ртско-медицинске организације у свету и њихов значај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а федерација спортскомедицинских асоцијациј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F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1386000"/>
            <a:ext cx="87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FSMA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основана 1997. год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и циљеви ове асоцијације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љење спортске медицине као специјалности у Евро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монизација изучавања спортске медицине широм Евро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варање паневропског форума за координацију активности европских удружења за спортску медици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моција значаја физичких активности и вежбања у превенцији, лечењу и рехабилитацији после болести и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на научних резултата и искустава у области спортске медиц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 на заједничким истраживачким пројектима, стварању лиценцираних спортскомедицинских центара и промоција етичких принципа у спортској медици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Ð ÐµÐ·ÑÐ»ÑÐ°Ñ ÑÐ»Ð¸ÐºÐ° Ð·Ð° The European Federation of Sports Medicine Associations â EFSMA"/>
          <p:cNvPicPr/>
          <p:nvPr/>
        </p:nvPicPr>
        <p:blipFill>
          <a:blip r:embed="rId1"/>
          <a:stretch/>
        </p:blipFill>
        <p:spPr>
          <a:xfrm>
            <a:off x="2627280" y="5373720"/>
            <a:ext cx="4705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628640"/>
            <a:ext cx="871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међународна организација основана 1995.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ени циљеви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спортске науке у међународном, мултикултуралном, мултидисциплинарном и интердисциплинарном контексту, с посебном пажњом усмереном на интердисциплинарну област спортске науке и спортске медиц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Ð ÐµÐ·ÑÐ»ÑÐ°Ñ ÑÐ»Ð¸ÐºÐ° Ð·Ð° European College of Sport Science â ECSS)"/>
          <p:cNvPicPr/>
          <p:nvPr/>
        </p:nvPicPr>
        <p:blipFill>
          <a:blip r:embed="rId1"/>
          <a:stretch/>
        </p:blipFill>
        <p:spPr>
          <a:xfrm>
            <a:off x="1619280" y="4941720"/>
            <a:ext cx="6153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1557000"/>
            <a:ext cx="871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више спортску науку као интегралну ризницу знања о људским покретима у оквиру природних наука, медицине, социјалних и хуманитарних нау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жавају се сваке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сети конгрес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, одржан у Београду 2005. године, био је највећи скуп спортске медицине одржан у Србији, који је окупио преко 1000 учесника из 54 земљ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Ð ÐµÐ·ÑÐ»ÑÐ°Ñ ÑÐ»Ð¸ÐºÐ° Ð·Ð° European College of Sport Science â ECSS Belgrade 2005"/>
          <p:cNvPicPr/>
          <p:nvPr/>
        </p:nvPicPr>
        <p:blipFill>
          <a:blip r:embed="rId1"/>
          <a:stretch/>
        </p:blipFill>
        <p:spPr>
          <a:xfrm>
            <a:off x="1116000" y="4869000"/>
            <a:ext cx="734544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6000" y="1988640"/>
            <a:ext cx="8712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 основана је 1971. године с циљем повезивања лекара и унапређења научне сарадње спортскомедицинских удружења Бугарске, Грчке, Румуније, Турске и Југослав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ас ова асоцијација обухвата девет земаља: Албанију, Бугарску, Кипар, Грчку, Македонију, Румунију, Молдавију, Србију и Турс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Ð ÐµÐ·ÑÐ»ÑÐ°Ñ ÑÐ»Ð¸ÐºÐ° Ð·Ð° Balkan Sport Medicine Association â BSMA"/>
          <p:cNvPicPr/>
          <p:nvPr/>
        </p:nvPicPr>
        <p:blipFill>
          <a:blip r:embed="rId1"/>
          <a:stretch/>
        </p:blipFill>
        <p:spPr>
          <a:xfrm>
            <a:off x="3348000" y="4365720"/>
            <a:ext cx="2376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484280"/>
            <a:ext cx="871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ви конгрес БСМА одржан је у Атини 1972. године, а последњи, петнаести, 2008. године у Букурешту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ва конгреса БСМА одржана су у нашој земљи; трећи у Нишу 1976. и девети 1995. године у Београду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последњем конгресу, одржаном у Букурешту 2008, Извршни комитет БСМА је одлучио да замрзне своје активности и да их усмери на рад у Европској федерацији спортскомедицинских асоцијациј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Ð ÐµÐ·ÑÐ»ÑÐ°Ñ ÑÐ»Ð¸ÐºÐ° Ð·Ð° Balkan Sport Medicine Association â BSMA"/>
          <p:cNvPicPr/>
          <p:nvPr/>
        </p:nvPicPr>
        <p:blipFill>
          <a:blip r:embed="rId1"/>
          <a:stretch/>
        </p:blipFill>
        <p:spPr>
          <a:xfrm>
            <a:off x="3492360" y="4149720"/>
            <a:ext cx="2374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ђународна спортскомедицинска асоцијација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ом одржавања II зимске олимпијаде 1928. год. у Сент Морицу, организован је састанак 32 лекара из 11 националних олимпијских селекција на којем је формирана Међународна спортскомедицинска асоцијациј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ociation Internationale Médico-Sport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првог председника изабран је Вилхелм Кнол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lhelm Knoll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76–1958) из Швајцарске, а први генерални секретар постао је Артур Малвиц из Немач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Међународна спортскомедицинска асоцијација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6000" y="2204640"/>
            <a:ext cx="8712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финисани су основни циљеви Удружења – размена информација и искустава везаних за базична истраживања и практичне аспекте спортске медиц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те године, током одржавања IX летњих олимпијских игара у Амстердаму, одржан је први конгрес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а, уз учешће 286 лекара из 30 зема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у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AIMS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в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едио је три правца деловањ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за спорт везаних научних истраживања у областима биологије, психологије и социолог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истраживања медицинских пројеката везаних за тренинг и такмич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овање међународних конгреса спортске медиц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773000"/>
            <a:ext cx="4900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ивањем и почетком рад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а озваничен је настанак спортске медицине као нове медицинске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ом одржавања Трећег међународног конгреса спортске медицине у Шамонију 1934. године одлучено је д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IM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мени своје име 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FIMS (Fédération Internationale de Médécine du Sport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јзначајније међународне асоцијације медицине 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6000" y="1915920"/>
            <a:ext cx="871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ед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а, међу најзначајније међународне асоцијације медицине спорта у Европи убрајају 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ропска федерација спортскомедицинских асоцијациј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European Federation of Sports Medicine Associ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FS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uropean College of Sport Scie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лканска асоцијација спортске медицине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lkan Sport Medicine Associ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S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6000" y="2349360"/>
            <a:ext cx="8712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данас сложено, добро организовано међународно удружење посвећено промоцији и развоју спортске медицине широм с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заједнички покровитељ четири континенталне и 117 националних спортскомедицинских асоцијација у које је укључено 125.000 спортских лекара и велики број других професионалаца у различитим областима заштите здрав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 је повезан с многим релевантним спортским и политичким организација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25941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98900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укативна функциј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стварује се преко курсева и публикација, регионалних и међународних скупова, светских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убликација о научним клиничким информацијама везаним за спортску медиц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арни циљев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су промоција истраживања и развоја спортске медицине широм света, помоћ спортистима у достизању оптималне такмичарске способности унапређењем њиховог генског потенцијала, здравља, исхране, квалитетне медицинске заштите и трен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25941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8920" y="2106720"/>
            <a:ext cx="8712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првог међународног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жаног 1928. године у Амстердаму, ови конгреси су одржавани сваке друге године, с прекидом током Другог светског ра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2016. године одржана су 43 међународна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Залагањем проф. др Смодлаке, 10. међународни конгрес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ржан је у Београду 1954. год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 1963. године, поред међународних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(који ће променити назив у светски 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), одржавају се и европски 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25941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09-07T07:22:04Z</dcterms:modified>
  <cp:revision>34</cp:revision>
  <dc:subject/>
  <dc:title>Демијелинизационе болести Мијастенија гравис</dc:title>
</cp:coreProperties>
</file>